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58400" cy="7772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058400" cy="7772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54120"/>
            <a:ext cx="882972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10058400" cy="7772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886200"/>
            <a:ext cx="882972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19040" y="2590920"/>
            <a:ext cx="8550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ACE/MAG Experi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90720" y="4403880"/>
            <a:ext cx="815328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n F. Ness, Mario H. Acun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onard E. Burlaga, Jacques L’Heureux, John Scheifele and Charles W.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19040" y="301680"/>
            <a:ext cx="85503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acecraft Magnetic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38320" y="1900080"/>
            <a:ext cx="850104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etic goals have been supported by APL and the instrument teams through an informal program of design and measur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C magnetic noise  &gt; 0.1 nT has been identified in preliminary ground measu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 DC field is estimated at &lt; 1 nT at each sensor location.  Final compensation of spacecraft remains an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19040" y="301680"/>
            <a:ext cx="85503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cience Opportuniti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38320" y="1900080"/>
            <a:ext cx="823428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lanetary propagation of solar and galactic energetic particles including charge, species and isotope 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y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situ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celeration of solar and interstellar particles including pickup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y of interplanetary turbulence and solar wind transients in collaboration with thermal particles instruments and other instrument teams.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19040" y="301680"/>
            <a:ext cx="85503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cience Opportunities (cont’d)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38320" y="1900080"/>
            <a:ext cx="850104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rdinated studies of the solar wind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-8, Voyagers, Ulysses, Mars Global Surveyor, SOHO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ar wind studies during both solar minimum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axim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rdinated studies with ISTP spacecraft, including WI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e weather forecasting using ACE as an upstream monitor of the solar w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19040" y="301680"/>
            <a:ext cx="85503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mmary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38320" y="1900080"/>
            <a:ext cx="850104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CE/MAG instrument is a state-of-the-art triaxial fluxgate magnetometer with on-board snapshot and FFT buff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ediments to data quality fore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CE/MAG instrument is integrated with the spacecraft and ready to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information is available a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http://www.bartol.udel.ed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19040" y="301680"/>
            <a:ext cx="85503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ACE/MAG Experi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14400" y="2209680"/>
            <a:ext cx="822960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n F. Ness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ario H. Acuna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onard E. Burlaga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Jacques L’Heureu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hn Scheifele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Charles W. Smit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Bartol Research Institute/U. of Dela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Goddard Space Flight Center/NA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19040" y="301680"/>
            <a:ext cx="85503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urpos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38320" y="1900080"/>
            <a:ext cx="850104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record the local magnetic field in whic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CE particle measurements ar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permit refined interpretation of particle observations including distribution functions relative to the ambient magnetic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mbine with the thermal particle instruments in providing a refined dataset for the study of interplanetary plasma dynam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erve as a real-time solar wind monit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NOAA’s space weather foreca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19040" y="301680"/>
            <a:ext cx="85503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rdwar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943600" y="1905120"/>
            <a:ext cx="3319560" cy="2354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943600" y="4559400"/>
            <a:ext cx="3282840" cy="2527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14400" y="1900080"/>
            <a:ext cx="449568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n triaxial fluxgate magnetometer of IMP, Mariner, Voyager and MGS heri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redundant sensors and electron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-board buffering of select, high-resolution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19040" y="301680"/>
            <a:ext cx="85503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ritage and Configuratio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38320" y="1900080"/>
            <a:ext cx="850104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/MAG is the WIND/MFI spare fluxgate magnetometer made compatible with the ACE spacec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n triaxial sensors are deployed on two opposing boom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2 meters from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nter of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ecraft (3.3 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sid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916520" y="4114800"/>
            <a:ext cx="4105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19040" y="301680"/>
            <a:ext cx="85503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figuration (cont’d)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38320" y="1900080"/>
            <a:ext cx="850104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magnetic boom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ls with goo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mal properti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fields due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mal cur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ors are covere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thermal blan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 activation and deployment is 1 hour after launch in low-altitude magnetosp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10080" y="2057400"/>
            <a:ext cx="4024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19040" y="301680"/>
            <a:ext cx="85503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rformanc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38320" y="1900080"/>
            <a:ext cx="808200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strument provides continuous three-component vector averages of the magnetic field with 3, 4 or 6 vector/second re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-board  FFT buffers extend the spectral resolution of averaged data to 12 H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al 297 second on-board snapshot buffers with 24 vector/second resolution capture high-frequency transient phenom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19040" y="301680"/>
            <a:ext cx="85503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aracteristic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900080"/>
            <a:ext cx="84582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ght dynamic ranges: </a:t>
            </a:r>
            <a:r>
              <a:rPr b="0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± </a:t>
            </a:r>
            <a:r>
              <a:rPr b="0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,  </a:t>
            </a:r>
            <a:r>
              <a:rPr b="0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± </a:t>
            </a:r>
            <a:r>
              <a:rPr b="0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,  </a:t>
            </a:r>
            <a:r>
              <a:rPr b="0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± </a:t>
            </a:r>
            <a:r>
              <a:rPr b="0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,  </a:t>
            </a:r>
            <a:r>
              <a:rPr b="0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± </a:t>
            </a:r>
            <a:r>
              <a:rPr b="0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6,  </a:t>
            </a:r>
            <a:r>
              <a:rPr b="0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± </a:t>
            </a:r>
            <a:r>
              <a:rPr b="0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24,  </a:t>
            </a:r>
            <a:r>
              <a:rPr b="0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± </a:t>
            </a:r>
            <a:r>
              <a:rPr b="0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96,  </a:t>
            </a:r>
            <a:r>
              <a:rPr b="0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± </a:t>
            </a:r>
            <a:r>
              <a:rPr b="0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,384 and  </a:t>
            </a:r>
            <a:r>
              <a:rPr b="0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± </a:t>
            </a:r>
            <a:r>
              <a:rPr b="0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5,536 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al resolution (12 bit):  </a:t>
            </a:r>
            <a:r>
              <a:rPr b="0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±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01,  </a:t>
            </a:r>
            <a:r>
              <a:rPr b="0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±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04, </a:t>
            </a:r>
            <a:br>
              <a:rPr sz="3200"/>
            </a:br>
            <a:r>
              <a:rPr b="0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±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16,  </a:t>
            </a:r>
            <a:r>
              <a:rPr b="0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±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625,  </a:t>
            </a:r>
            <a:r>
              <a:rPr b="0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±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5,  </a:t>
            </a:r>
            <a:r>
              <a:rPr b="0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±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0,  </a:t>
            </a:r>
            <a:r>
              <a:rPr b="0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±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0 and  </a:t>
            </a:r>
            <a:br>
              <a:rPr sz="3200"/>
            </a:br>
            <a:r>
              <a:rPr b="0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±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.0 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dwidth: 0 to 12 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or noise level: &lt; 0.006 nT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tivity: ~ 0.0005 nT/Hz in most sensitive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19040" y="301680"/>
            <a:ext cx="85503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aracteristics (cont’d)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900080"/>
            <a:ext cx="864864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ors (2): 225 g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ics (redundant): 2100 g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 consump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ics: 2.4 watts, regulated 28 volts +/-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ters: 1.0 watts, unregulated 28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ferred Customer</dc:creator>
  <dc:description/>
  <dc:language>en-US</dc:language>
  <cp:lastModifiedBy>Preferred Customer</cp:lastModifiedBy>
  <cp:revision>0</cp:revision>
  <dc:subject/>
  <dc:title>The ACE/MAG Experiment</dc:title>
</cp:coreProperties>
</file>